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7.pct" ContentType="image/x-pict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8.pct" ContentType="image/x-pict"/>
  <Override PartName="/ppt/media/image11.png" ContentType="image/png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204-CBB7-46CD-9041-AAEBD377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rose = tabl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ysacchar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olymers of hundreds to thousands of monosaccha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see the difference between starch &amp; glyco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easier to dig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ycogen = many branches = many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zyme can digest at multiple ends. Animals use glycogen for energy storage == want rapid re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follows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ch = all the glycosidic linkage are on same side = molecule lies f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ose = cross linking between OH (H bonds)  = rigi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-linking between polysaccharide ch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rigid &amp; hard to di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gestion of cellulose governs the life strategy of herbiv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 you do it really well and you’re a cow or an elephant (spend a long time digesting a lot of food with a little help from some microbes &amp; have to walk around slowly for a long time carrying a lot of food in your stom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you do it inefficiently and have to supplement your diet with simple sugars, like fruit and nectar, and you’re a gor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we find sweet foods pleasurable to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we attracted to sweet f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variety of polymers can be built from a small set of mon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ers can be connected in many combinations like the 26 letters in the alphabet can be used to create a great diversity of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ell has millions of different macro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acromolecules are poly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ensation (dehydration)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dow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mmense variety of polymers can be built from a small set of mon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 = c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 =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 = oxygen 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A6EE-A7BD-47A0-B0AA-DAF787FB0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BBD2-8230-46E2-B6CA-CDBA0449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817A-9E1B-41C7-AEAB-E7CF6FB8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2AB8-746A-4DF0-BB77-10ECBED0E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E944-285F-49A8-B931-F6E7F4EF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85BE-1B2F-405C-B3CD-4944C1A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9581-20EC-44B9-9381-7598DA17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F931-F27A-4E84-B62B-7A24586D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4A06-7D97-4CD2-AECF-31581C53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1131-385D-49E9-805E-A8CB397D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32AC-4005-4057-BD2A-135E407C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8784-2B84-4C2C-BE18-02F6B22C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6B7-81AE-4700-A20A-C24F7281533D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ers/kfoglia/Kim&apos;s%20NEW%20WORK/Division%20Ave%20-%20Levittown/%20Campbell%20CDs/BIOLOGY6eCIPLchapters1-17/ImageLibrary1-17/05-Macromolecules/05-02-Macromolecules.mov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5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2209680" y="1220760"/>
            <a:ext cx="6248520" cy="5560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7240" y="608760"/>
            <a:ext cx="46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functional groups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120" y="1904760"/>
            <a:ext cx="156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bonyl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760" y="3530160"/>
            <a:ext cx="124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keton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760" y="2717280"/>
            <a:ext cx="161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ldehyd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120" y="4343040"/>
            <a:ext cx="156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ydroxyl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gar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5C &amp; 6C sugars form rings in aqueous solutions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 cells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rbons are number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9093"/>
          <a:stretch/>
        </p:blipFill>
        <p:spPr>
          <a:xfrm>
            <a:off x="914400" y="2305080"/>
            <a:ext cx="8001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umbered carb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2438280"/>
            <a:ext cx="3886200" cy="336096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ea18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981080"/>
            <a:ext cx="0" cy="1143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388620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56272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56272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886200"/>
            <a:ext cx="547560" cy="54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209680"/>
            <a:ext cx="547920" cy="547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1523880"/>
            <a:ext cx="38088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41911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1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867280"/>
            <a:ext cx="38088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2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3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41911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4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Arial"/>
              </a:rPr>
              <a:t>5'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1752480"/>
            <a:ext cx="38124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Arial"/>
              </a:rPr>
              <a:t>6'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209680"/>
            <a:ext cx="547560" cy="547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mple &amp; complex suga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saccharid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mple 1 monomer suga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uco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saccharid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2 monome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cro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lysaccharid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arge polyme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ar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69301" t="11695" r="0" b="18702"/>
          <a:stretch/>
        </p:blipFill>
        <p:spPr>
          <a:xfrm>
            <a:off x="5181480" y="2895480"/>
            <a:ext cx="3429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suga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hydration syn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61907"/>
          <a:stretch/>
        </p:blipFill>
        <p:spPr>
          <a:xfrm>
            <a:off x="1066680" y="2666880"/>
            <a:ext cx="6894720" cy="1509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4338360"/>
            <a:ext cx="13716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338360"/>
            <a:ext cx="14475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02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sidic linkag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35053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sacchar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4338360"/>
            <a:ext cx="13716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lt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suga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hydration syn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4338360"/>
            <a:ext cx="15238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uct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38360"/>
            <a:ext cx="14475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02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sidic linkag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029200"/>
            <a:ext cx="35053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132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sacchar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4338360"/>
            <a:ext cx="13716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ucr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57016" r="0" b="4891"/>
          <a:stretch/>
        </p:blipFill>
        <p:spPr>
          <a:xfrm>
            <a:off x="1066680" y="2590920"/>
            <a:ext cx="6894720" cy="1511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0720" y="50439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uctural isomer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029200"/>
            <a:ext cx="350496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560" y="61243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saccharid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lymers of suga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sts little energy to buil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sily reversible = release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rch (plant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gen (animal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uilding materials = struc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ulose (plant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itin (arthropods &amp; fungi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ranched vs linear polysaccharid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1206360" y="1523880"/>
            <a:ext cx="67183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saccharide diversity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ar structure determines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58104"/>
          <a:stretch/>
        </p:blipFill>
        <p:spPr>
          <a:xfrm>
            <a:off x="1676520" y="1981080"/>
            <a:ext cx="6019560" cy="2751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38080" y="4876920"/>
            <a:ext cx="7925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omers of glucos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 does structure influence function…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gesting starch vs. cellul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41883" r="17936" b="30003"/>
          <a:stretch/>
        </p:blipFill>
        <p:spPr>
          <a:xfrm>
            <a:off x="1066680" y="1371600"/>
            <a:ext cx="693432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69965" r="17283" b="4441"/>
          <a:stretch/>
        </p:blipFill>
        <p:spPr>
          <a:xfrm>
            <a:off x="1066680" y="3887640"/>
            <a:ext cx="6983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cro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maller organic molecules join together to form larger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cro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major classes of macromolecule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i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714920" y="488880"/>
            <a:ext cx="4255920" cy="29894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ow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58c"/>
                </a:solidFill>
                <a:latin typeface="Arial"/>
              </a:rPr>
              <a:t>can digest cellulose well; no need to eat supplemental sugars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rill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58c"/>
                </a:solidFill>
                <a:latin typeface="Arial"/>
              </a:rPr>
              <a:t>can’t digest cellulose well; must supplement with sugar source, like fruit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7200" y="334800"/>
            <a:ext cx="4303800" cy="307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264675" t="0" r="152208" b="0"/>
          <a:stretch/>
        </p:blipFill>
        <p:spPr>
          <a:xfrm>
            <a:off x="192240" y="3186000"/>
            <a:ext cx="4300560" cy="3657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34000" y="3524400"/>
            <a:ext cx="4236840" cy="3178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168720"/>
            <a:ext cx="465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os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abundant organic compound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8120" y="1905120"/>
            <a:ext cx="57150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emic ind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ich food will get into your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lood more quickly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pp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ice cak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rn flak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age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eanut M&amp;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98320" y="4495680"/>
            <a:ext cx="1459080" cy="2217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2071800" cy="2237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26708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213600" y="4743360"/>
            <a:ext cx="2549520" cy="190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629400" y="1828800"/>
            <a:ext cx="2335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emic ind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anking of carbohydrates based on their immediate effect on blood glucose (blood sugar) leve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 foods that breakdown quickly during digestion have the highest glycemic indices. Their blood sugar response is fast &amp; high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98320" y="4495680"/>
            <a:ext cx="1459080" cy="2217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2071800" cy="223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26708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213600" y="4743360"/>
            <a:ext cx="254952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emic ind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ich food will get into your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lood more quickly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pp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6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ice cak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rn flake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4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age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7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eanut M&amp;M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3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8320" y="4495680"/>
            <a:ext cx="1459080" cy="2217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2071800" cy="2237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26708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213600" y="4743360"/>
            <a:ext cx="2549520" cy="1903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629400" y="1828800"/>
            <a:ext cx="2335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Carbohydrate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y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molecules built by linking chain of repeating smaller unit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ymer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nomers = repeated small uni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7217" b="53348"/>
          <a:stretch/>
        </p:blipFill>
        <p:spPr>
          <a:xfrm>
            <a:off x="4724280" y="3817800"/>
            <a:ext cx="4343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uild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densation rea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hydration 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joins monomers by “taking”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monomer provides O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other monomer provides H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gether the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quires energ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7217" b="53348"/>
          <a:stretch/>
        </p:blipFill>
        <p:spPr>
          <a:xfrm>
            <a:off x="4724280" y="3817800"/>
            <a:ext cx="4343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4724280" y="3581280"/>
            <a:ext cx="434340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to break down a polym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Hydrolysi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to break apart monomers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verse of condensation rea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is split into H and O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 &amp; OH group attach where the covalent bond used to b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digestion i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Carbohydrate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3804" t="23377" r="5400" b="28053"/>
          <a:stretch/>
        </p:blipFill>
        <p:spPr>
          <a:xfrm>
            <a:off x="7086600" y="838080"/>
            <a:ext cx="1754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o what’s all this talk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bout carb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kin’s Die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uth Beach Die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hydrat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bohydrates are composed of C, H, O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arbo - hydr - 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(CH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)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x                     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 stora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w materials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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ructural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mer:  suga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sugars &amp; starch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1240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gar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names for sugars end i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o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assified by number of carb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C = hexose  (glucos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5C = pentose (fructose, ribos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C = triose (glyceraldehyde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3-09-15T02:31:31Z</cp:lastPrinted>
  <dcterms:modified xsi:type="dcterms:W3CDTF">2005-09-16T03:03:47Z</dcterms:modified>
  <cp:revision>432</cp:revision>
  <dc:subject>Introduction to the Internet &amp; Web sites</dc:subject>
  <dc:title>Small Business Success on the Web</dc:title>
</cp:coreProperties>
</file>